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D32-9ADC-4E19-AAF9-C2934E48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2EF-699E-452E-8EFF-81EF2EE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669-951B-4C9E-BD84-E12E605A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E74-75EB-4676-8C9A-72482FB7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960-803C-4491-AC77-CEDE9350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310-C142-4428-9636-08A6857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E8C-CE43-4121-A8F1-87F428E9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179-7F65-4A9F-9935-E2858060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86A-BB97-421D-84DF-E2DD0B54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057-6A05-4F01-8AFF-15FBA18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C0B-047B-4768-9B88-ED0DE9A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85C-AB40-4911-AB4F-EA8F4A25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F105-8314-4D2A-B03D-04C06FC81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051youngr\Local Settings\Temporary Internet Files\Content.IE5\WNZ8BQQ5\MPj04411500000[1].jpg"/>
          <p:cNvPicPr/>
          <p:nvPr/>
        </p:nvPicPr>
        <p:blipFill>
          <a:blip r:embed="rId1"/>
          <a:stretch/>
        </p:blipFill>
        <p:spPr>
          <a:xfrm>
            <a:off x="5257800" y="129528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entagon 7"/>
          <p:cNvSpPr/>
          <p:nvPr/>
        </p:nvSpPr>
        <p:spPr>
          <a:xfrm rot="20252400">
            <a:off x="4723920" y="1066320"/>
            <a:ext cx="2286000" cy="6098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20" y="0"/>
                </a:lnTo>
                <a:lnTo>
                  <a:pt x="21600" y="10800"/>
                </a:lnTo>
                <a:lnTo>
                  <a:pt x="187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rt b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entagon 9"/>
          <p:cNvSpPr/>
          <p:nvPr/>
        </p:nvSpPr>
        <p:spPr>
          <a:xfrm rot="20069400">
            <a:off x="4925520" y="5607000"/>
            <a:ext cx="1417680" cy="51444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83" y="0"/>
                </a:lnTo>
                <a:lnTo>
                  <a:pt x="21600" y="10800"/>
                </a:lnTo>
                <a:lnTo>
                  <a:pt x="176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entagon 10"/>
          <p:cNvSpPr/>
          <p:nvPr/>
        </p:nvSpPr>
        <p:spPr>
          <a:xfrm rot="2186400">
            <a:off x="4384440" y="3355920"/>
            <a:ext cx="1981080" cy="5335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2" y="0"/>
                </a:lnTo>
                <a:lnTo>
                  <a:pt x="21600" y="10800"/>
                </a:lnTo>
                <a:lnTo>
                  <a:pt x="186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entagon 11"/>
          <p:cNvSpPr/>
          <p:nvPr/>
        </p:nvSpPr>
        <p:spPr>
          <a:xfrm flipH="1" rot="20678400">
            <a:off x="7620120" y="2361960"/>
            <a:ext cx="1523880" cy="457560"/>
          </a:xfrm>
          <a:custGeom>
            <a:avLst/>
            <a:gdLst>
              <a:gd name="textAreaLeft" fmla="*/ -360 w 1523880"/>
              <a:gd name="textAreaRight" fmla="*/ 1523880 w 1523880"/>
              <a:gd name="textAreaTop" fmla="*/ 0 h 457560"/>
              <a:gd name="textAreaBottom" fmla="*/ 457920 h 4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0" y="0"/>
                </a:lnTo>
                <a:lnTo>
                  <a:pt x="21600" y="10800"/>
                </a:lnTo>
                <a:lnTo>
                  <a:pt x="183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entagon 12"/>
          <p:cNvSpPr/>
          <p:nvPr/>
        </p:nvSpPr>
        <p:spPr>
          <a:xfrm flipH="1" rot="1413600">
            <a:off x="7350120" y="5360760"/>
            <a:ext cx="1371600" cy="4572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13" descr=""/>
          <p:cNvPicPr/>
          <p:nvPr/>
        </p:nvPicPr>
        <p:blipFill>
          <a:blip r:embed="rId2"/>
          <a:stretch/>
        </p:blipFill>
        <p:spPr>
          <a:xfrm>
            <a:off x="-274680" y="-109440"/>
            <a:ext cx="3524400" cy="3157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228600" y="19051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keywords or terms assigned to an article, such as photos, videos, blogs and other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gs help describe an item and make it easier to be found l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5"/>
          <p:cNvSpPr/>
          <p:nvPr/>
        </p:nvSpPr>
        <p:spPr>
          <a:xfrm>
            <a:off x="990720" y="5029200"/>
            <a:ext cx="3429000" cy="1600200"/>
          </a:xfrm>
          <a:prstGeom prst="ellipse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rk added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tag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o his YouTube video so other dirt bikers could find his movie easi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15:49Z</dcterms:created>
  <dc:creator>Administrator</dc:creator>
  <dc:description/>
  <dc:language>en-US</dc:language>
  <cp:lastModifiedBy>Administrator</cp:lastModifiedBy>
  <dcterms:modified xsi:type="dcterms:W3CDTF">2009-03-13T17:30:18Z</dcterms:modified>
  <cp:revision>2</cp:revision>
  <dc:subject/>
  <dc:title>Slide 1</dc:title>
</cp:coreProperties>
</file>